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844C-9B7B-4538-BD98-494BD6166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5F88-4105-4263-9150-5B89FF39E8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3898-912D-446D-BB88-B9EC75D59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DAE-F327-42EE-B44C-AEEE0F160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638D-227B-4923-9FE6-213A6A358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66A8-AA1F-4C11-B159-6EF84BE14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94EB-899D-477D-B669-3058F70DC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DD38-2A58-4C9E-859A-BD4DA6713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2B6C-B215-4767-BC04-FB1E1132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92FD2-E35E-4A04-9726-766F1F427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B8AFF-1910-4739-B32C-E397E5CE5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6F3CF-CF74-4B20-9B4A-F202A1B2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8AE71-91B8-4778-ADF8-75F648EB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2C58-9E77-475F-9C21-C6387BAB7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30212-92DA-42DF-941B-E4EBB313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2AAD-372D-4B07-9F80-DA58D2A5C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AAA87-D8A3-49B0-B326-1989118F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EA09-0626-4A53-8BB5-84B8FE0F6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85E5-59B7-4B6F-BB35-4D0D25DB5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C142-27AE-4489-BBE3-5CC8A2DD3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ffect of boiling water with volum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Victor Caliguri, Jeff Parkinson, Tyler Goepfe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ortant science concepts are related to the experiment. The experiment had to do with the water that was boiling and getting poured into room tempature. This would help people know if they should pour hot water into cold water or cold water to hot wa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380880" y="1447560"/>
            <a:ext cx="8229600" cy="1600200"/>
          </a:xfrm>
          <a:prstGeom prst="rect">
            <a:avLst/>
          </a:prstGeom>
          <a:noFill/>
          <a:ln w="0">
            <a:noFill/>
          </a:ln>
        </p:spPr>
        <p:txBody>
          <a:bodyPr anchor="t">
            <a:normAutofit fontScale="77000"/>
          </a:bodyPr>
          <a:p>
            <a:pPr marL="263880" indent="-263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 together.</a:t>
            </a:r>
            <a:br>
              <a:rPr sz="3200"/>
            </a:b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olume with more water will change the temp. more because it has more kinetic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 Volume of water</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 Mixed results of both volumes at different temperature.</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mount of cold water and hot water, container of hot and cold water.</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752480"/>
        </p:xfrm>
        <a:graphic>
          <a:graphicData uri="http://schemas.openxmlformats.org/drawingml/2006/table">
            <a:tbl>
              <a:tblPr/>
              <a:tblGrid>
                <a:gridCol w="1371600"/>
                <a:gridCol w="1371600"/>
                <a:gridCol w="1371600"/>
                <a:gridCol w="1371600"/>
                <a:gridCol w="1371600"/>
                <a:gridCol w="1371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00mL -50mL  Hot to 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mL -100mL  Cold to  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599840"/>
            <a:ext cx="8229600" cy="6248520"/>
          </a:xfrm>
          <a:prstGeom prst="rect">
            <a:avLst/>
          </a:prstGeom>
          <a:noFill/>
          <a:ln w="0">
            <a:noFill/>
          </a:ln>
        </p:spPr>
        <p:txBody>
          <a:bodyPr anchor="t">
            <a:normAutofit fontScale="87000"/>
          </a:bodyPr>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et out two beakers and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one beaker to 50mL using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l the other to 100mL using a graduated cylinder.</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get the alcohol burner and light it.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t it under the beaker and wait till the water boils</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n pure the 100mL of water in the 50mL of water.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measure the temperature.</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n do the same but pure the 50mL of water in the 100mL </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data.</a:t>
            </a:r>
            <a:endParaRPr b="0" lang="en-US" sz="3200" spc="-1" strike="noStrike">
              <a:solidFill>
                <a:srgbClr val="000000"/>
              </a:solidFill>
              <a:latin typeface="Calibri"/>
            </a:endParaRPr>
          </a:p>
          <a:p>
            <a:pPr marL="447480" indent="-447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pic>
        <p:nvPicPr>
          <p:cNvPr id="60" name="Content Placeholder 3" descr="pic.jpg"/>
          <p:cNvPicPr/>
          <p:nvPr/>
        </p:nvPicPr>
        <p:blipFill>
          <a:blip r:embed="rId1"/>
          <a:stretch/>
        </p:blipFill>
        <p:spPr>
          <a:xfrm>
            <a:off x="1523880" y="1957320"/>
            <a:ext cx="60962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graphicFrame>
        <p:nvGraphicFramePr>
          <p:cNvPr id="62" name=""/>
          <p:cNvGraphicFramePr/>
          <p:nvPr/>
        </p:nvGraphicFramePr>
        <p:xfrm>
          <a:off x="457200" y="1600200"/>
          <a:ext cx="8229600" cy="2209680"/>
        </p:xfrm>
        <a:graphic>
          <a:graphicData uri="http://schemas.openxmlformats.org/drawingml/2006/table">
            <a:tbl>
              <a:tblPr/>
              <a:tblGrid>
                <a:gridCol w="2743200"/>
                <a:gridCol w="2743200"/>
                <a:gridCol w="2743200"/>
              </a:tblGrid>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C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Ave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pic>
        <p:nvPicPr>
          <p:cNvPr id="64" name="Content Placeholder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 together. The variables are the same because they both have do with the volume of water and the temperature. The data was measured in millili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 was supported because the beaker with more volume took longer to boil. The beaker with 100mL of water took over 6minutes to boil and the 50Ml only took around 4 minutes to bo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4T15:19:01Z</dcterms:modified>
  <cp:revision>13</cp:revision>
  <dc:subject/>
  <dc:title>Title:</dc:title>
</cp:coreProperties>
</file>